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gif" ContentType="image/gif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3.jpeg" ContentType="image/jpeg"/>
  <Override PartName="/ppt/media/image22.gif" ContentType="image/gif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6FB-92D8-459D-BE70-564B65C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5DA-C386-4080-B380-801AC914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D2C-07C0-4949-9FB5-8EB568EB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D81-E7B8-4314-A799-5C4DA589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0E6-F256-40C8-AB6C-D3CC99D7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AB0-DCE8-40F8-96A3-74AEAC76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DB0D-31D6-4F68-94B2-D4DCA4C6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167A-CB1F-4558-A0AE-E9F6495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CB9F-CD04-4347-9FBD-363780B8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C14-EF91-47ED-86AE-AE4C62E4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30FF-C0ED-4AA8-9DA7-ACC664A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8D0-D33D-4D11-9A7E-4E23657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93F2-2061-4313-A282-59067A0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34E7-6F09-4512-AA90-B5038DC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9C9-6D46-4541-909D-F481661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E4C-A0A1-4F43-A038-5B7E2F2F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D952-6CA3-4B87-95DC-DD818620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1DAD-1DBA-4017-89C8-2A4D9012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20E4-1FFD-469F-A0B2-5C885328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1E21-E83A-4986-A577-338129CC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27F6-18CE-41BC-8F0D-90A85796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5420-82DF-49DB-A41C-7FB3D35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685-19D9-4839-802C-6B15384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86C4-4FF3-497B-8932-F299DD1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F68E-6EFE-4D6E-BDFA-09959F9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8AEA-B65D-4819-B059-B01002E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2E4C-3F09-402A-8CED-98D889C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D021-3717-4486-9DB6-E66609A5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CDAE-6762-4D75-8965-4C10B4E7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7FAE-0B47-42AF-A2F8-BAD14F8A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730D-A28B-4F50-971D-BD0E285E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47F2-C2C5-421F-B9EE-9EB069B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6726-B9B9-4FE2-A5E6-4F1A4E9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621-9955-473D-87EE-03EE8183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E140-158A-445C-B7EF-BA2F0CE5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BE07-43E3-45D6-AA0C-5F58DA55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EB95-944B-404D-8743-1B7F559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0B57-AAF9-4F6E-99CD-9B5E680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06D30-640B-46BE-B82C-8C7ACBF3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33D9-56F9-403C-8A2F-11CA6CA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EA6C-3A25-482F-9ABE-59844B96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2305-A0E7-4804-9C73-A07B4265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50ED-1420-43C4-A725-D7474781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D1F3-EB50-4921-8D9F-D706A7A0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6B8-F8C2-4F2D-B521-BC46B5CD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F894-A90B-4993-917A-611AB1F8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55704-8044-4326-A4E2-9E180255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87A1-14BE-43DF-A880-3B2C953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444A-5BDC-49F5-B95C-971E589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3686-2DE0-4A56-A6F6-A52B6639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7B10-F134-4A96-BDDB-75A67F9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587CA-297E-43D9-AB5B-E8A756D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B05E-CA3F-48A9-A8B7-859ACD7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E4A4-3BDE-4721-9123-677AC99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0445-BBBC-4234-A2E2-68159AC3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D08-BB21-43DC-9C63-619ABB5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5DBA-4C7B-4742-BFE5-B152E419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212F-FDDB-4DAC-9725-588D79CD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6F70B-7A2F-4DA4-9E66-803D2004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64D4-3F08-4A50-82D1-82073CD3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C09E-A3A8-47D7-A105-381C8FD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647E-F16E-4A4F-B0C1-AEE6549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A8B57-B6F5-4290-A903-3C7B62A4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87245-B243-4FC2-B821-640F558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56C1-F664-4D06-99D1-874AA19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6F179-1721-4C95-8667-8B78D6C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BC0-98AE-4550-BE0F-BF28D67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0997-2AB6-4E1A-A7CE-EA149515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7F9AB-38A5-4C35-B5F1-3A26D592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CB622-3E5D-48C7-9EFD-4E484C71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3DEC4-2145-403B-9170-816CFF34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9663-BF81-4B3F-908D-994B9AA8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DEAC8-B250-4CA4-8C3A-BA999DCD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F99B-5ADC-4B28-B07E-EF16BD5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73DC-A3A5-4E46-82DC-893304D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5608-91F8-4ECA-A10F-A7B2203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694E7-0F74-4C98-B2A2-F08B9B5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86D-C20A-44AD-9E50-324B757F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F75F-F940-41F4-80D1-B46C2B4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29F9-EFEB-45AB-9282-0F262E3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EAAC-D68B-40B8-A521-AFA54AF4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BA94A-F532-45EE-93ED-2225109D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F8F8-5B6F-4425-B3CD-7ADA9104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D6B-DEF9-4A02-8A02-4B20008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89C-226D-4285-BE19-75889506744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Rectangle 11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44" name="Rectangle 1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74CE-9001-4FCF-8C79-F96C993C87E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9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88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Straight Connector 11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b5ae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F76D-C58A-4E4C-A39B-266EA8F1FFC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018-4CC3-4BBD-B672-2F27FC58183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58E8-C759-47B3-89D8-35219BA127A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8117-E894-4A41-9CB7-63D1B21BCE5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6A6-895D-4FC1-92D6-432204D891E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АРСТВО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«ДЕДА МОРОЗА»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акаренко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тьяна Михайловна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ХЛОПУШЕК СДЕЛАЛИ РЕБЯ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Picture 4" descr="4AE39071"/>
          <p:cNvPicPr/>
          <p:nvPr/>
        </p:nvPicPr>
        <p:blipFill>
          <a:blip r:embed="rId1"/>
          <a:stretch/>
        </p:blipFill>
        <p:spPr>
          <a:xfrm>
            <a:off x="1476360" y="3716280"/>
            <a:ext cx="3097080" cy="151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3C1823FB"/>
          <p:cNvPicPr/>
          <p:nvPr/>
        </p:nvPicPr>
        <p:blipFill>
          <a:blip r:embed="rId2"/>
          <a:stretch/>
        </p:blipFill>
        <p:spPr>
          <a:xfrm>
            <a:off x="5364000" y="3645000"/>
            <a:ext cx="2519640" cy="1512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7"/>
          <p:cNvSpPr/>
          <p:nvPr/>
        </p:nvSpPr>
        <p:spPr>
          <a:xfrm>
            <a:off x="3995640" y="2256120"/>
            <a:ext cx="129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8" descr="Ёлка"/>
          <p:cNvPicPr/>
          <p:nvPr/>
        </p:nvPicPr>
        <p:blipFill>
          <a:blip r:embed="rId3"/>
          <a:stretch/>
        </p:blipFill>
        <p:spPr>
          <a:xfrm>
            <a:off x="179280" y="4797360"/>
            <a:ext cx="1801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E:\Documents and Settings\Администратор\Рабочий стол\Pictures\1000000F000000F000000140D387011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В лесу родилась ёлочка.mp3" descr=""/>
          <p:cNvPicPr/>
          <p:nvPr/>
        </p:nvPicPr>
        <p:blipFill>
          <a:blip r:embed="rId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4731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КОЛЬКО ИГРУШЕК ОСТАЛОСЬ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9" name="Picture 4" descr="193B3808"/>
          <p:cNvPicPr/>
          <p:nvPr/>
        </p:nvPicPr>
        <p:blipFill>
          <a:blip r:embed="rId1"/>
          <a:stretch/>
        </p:blipFill>
        <p:spPr>
          <a:xfrm>
            <a:off x="900000" y="3500280"/>
            <a:ext cx="3527640" cy="25416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4067280" y="1229760"/>
            <a:ext cx="10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№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6" descr="Ёлочка"/>
          <p:cNvPicPr/>
          <p:nvPr/>
        </p:nvPicPr>
        <p:blipFill>
          <a:blip r:embed="rId2"/>
          <a:stretch/>
        </p:blipFill>
        <p:spPr>
          <a:xfrm>
            <a:off x="5724360" y="2492280"/>
            <a:ext cx="24084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roup 10" descr=""/>
          <p:cNvPicPr/>
          <p:nvPr/>
        </p:nvPicPr>
        <p:blipFill>
          <a:blip r:embed="rId1"/>
          <a:stretch/>
        </p:blipFill>
        <p:spPr>
          <a:xfrm>
            <a:off x="3365640" y="2298600"/>
            <a:ext cx="1901520" cy="18352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2" descr="j0336789.gif"/>
          <p:cNvPicPr/>
          <p:nvPr/>
        </p:nvPicPr>
        <p:blipFill>
          <a:blip r:embed="rId2"/>
          <a:stretch/>
        </p:blipFill>
        <p:spPr>
          <a:xfrm>
            <a:off x="6215040" y="1071720"/>
            <a:ext cx="1176480" cy="214308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3" descr="j0336789.gif"/>
          <p:cNvPicPr/>
          <p:nvPr/>
        </p:nvPicPr>
        <p:blipFill>
          <a:blip r:embed="rId3"/>
          <a:stretch/>
        </p:blipFill>
        <p:spPr>
          <a:xfrm>
            <a:off x="7000920" y="114300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4" descr="j0336789.gif"/>
          <p:cNvPicPr/>
          <p:nvPr/>
        </p:nvPicPr>
        <p:blipFill>
          <a:blip r:embed="rId4"/>
          <a:stretch/>
        </p:blipFill>
        <p:spPr>
          <a:xfrm>
            <a:off x="7786800" y="64296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5" descr="j0336789.gif"/>
          <p:cNvPicPr/>
          <p:nvPr/>
        </p:nvPicPr>
        <p:blipFill>
          <a:blip r:embed="rId5"/>
          <a:stretch/>
        </p:blipFill>
        <p:spPr>
          <a:xfrm>
            <a:off x="7000920" y="50004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6" descr="j0336789.gif"/>
          <p:cNvPicPr/>
          <p:nvPr/>
        </p:nvPicPr>
        <p:blipFill>
          <a:blip r:embed="rId6"/>
          <a:stretch/>
        </p:blipFill>
        <p:spPr>
          <a:xfrm>
            <a:off x="7967520" y="1071720"/>
            <a:ext cx="1176480" cy="13572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7" descr="j0336789.gif"/>
          <p:cNvPicPr/>
          <p:nvPr/>
        </p:nvPicPr>
        <p:blipFill>
          <a:blip r:embed="rId7"/>
          <a:stretch/>
        </p:blipFill>
        <p:spPr>
          <a:xfrm>
            <a:off x="7286760" y="1857240"/>
            <a:ext cx="1176120" cy="1571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snowmann0002"/>
          <p:cNvPicPr/>
          <p:nvPr/>
        </p:nvPicPr>
        <p:blipFill>
          <a:blip r:embed="rId8"/>
          <a:stretch/>
        </p:blipFill>
        <p:spPr>
          <a:xfrm>
            <a:off x="7072200" y="2714760"/>
            <a:ext cx="1133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 Желаю вам цвести, расти.. «Копить, крепить здоровье..»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1" name="Picture 5" descr="Дед Мороз"/>
          <p:cNvPicPr/>
          <p:nvPr/>
        </p:nvPicPr>
        <p:blipFill>
          <a:blip r:embed="rId1"/>
          <a:stretch/>
        </p:blipFill>
        <p:spPr>
          <a:xfrm>
            <a:off x="5796000" y="189000"/>
            <a:ext cx="273672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 Оно для дальнего пути.. Главнейшее условие»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3" name="Picture 4" descr="Дед Мороз"/>
          <p:cNvPicPr/>
          <p:nvPr/>
        </p:nvPicPr>
        <p:blipFill>
          <a:blip r:embed="rId1"/>
          <a:stretch/>
        </p:blipFill>
        <p:spPr>
          <a:xfrm>
            <a:off x="5508720" y="333360"/>
            <a:ext cx="23763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Желаю вам цвести, расти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опить, крепить здоровь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но для дальнего пути-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лавнейшее услови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5" name="Picture 4" descr="Дед Мороз"/>
          <p:cNvPicPr/>
          <p:nvPr/>
        </p:nvPicPr>
        <p:blipFill>
          <a:blip r:embed="rId1"/>
          <a:stretch/>
        </p:blipFill>
        <p:spPr>
          <a:xfrm>
            <a:off x="5580000" y="549360"/>
            <a:ext cx="208764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80C8E26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СТЕРСКАЯ ДЕДА МОРОЗ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2" name="Picture 4" descr="7DE45BFE"/>
          <p:cNvPicPr/>
          <p:nvPr/>
        </p:nvPicPr>
        <p:blipFill>
          <a:blip r:embed="rId1"/>
          <a:stretch/>
        </p:blipFill>
        <p:spPr>
          <a:xfrm>
            <a:off x="836640" y="2286000"/>
            <a:ext cx="3429000" cy="4022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787640" y="234936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Необходимо подарить 10 зайчат. Дед Мороз отложил всего 7. Сколько ему еще надо положить зайчат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СТЕРСКАЯ ДЕДА МОРОЗ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Picture 4" descr="7DE45BFE"/>
          <p:cNvPicPr/>
          <p:nvPr/>
        </p:nvPicPr>
        <p:blipFill>
          <a:blip r:embed="rId1"/>
          <a:stretch/>
        </p:blipFill>
        <p:spPr>
          <a:xfrm>
            <a:off x="0" y="2362320"/>
            <a:ext cx="3174840" cy="37242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Снегурочке надо подписать 8  новогодних открыток. 5 открыток она уже подписала. Сколько открыток ей нужно еще подписа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Group 10" descr=""/>
          <p:cNvPicPr/>
          <p:nvPr/>
        </p:nvPicPr>
        <p:blipFill>
          <a:blip r:embed="rId1"/>
          <a:stretch/>
        </p:blipFill>
        <p:spPr>
          <a:xfrm>
            <a:off x="139680" y="2706840"/>
            <a:ext cx="1646280" cy="15793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3" descr="j0336789.gif"/>
          <p:cNvPicPr/>
          <p:nvPr/>
        </p:nvPicPr>
        <p:blipFill>
          <a:blip r:embed="rId2"/>
          <a:stretch/>
        </p:blipFill>
        <p:spPr>
          <a:xfrm>
            <a:off x="7715160" y="214200"/>
            <a:ext cx="1176480" cy="1928880"/>
          </a:xfrm>
          <a:prstGeom prst="rect">
            <a:avLst/>
          </a:prstGeom>
          <a:ln w="0">
            <a:noFill/>
          </a:ln>
        </p:spPr>
      </p:pic>
      <p:pic>
        <p:nvPicPr>
          <p:cNvPr id="309" name="detskie_-_val's_snezhinok.mp3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93802E-007 C 2.5E-006 0.14986 0.08698 0.27313 0.19323 0.27313 C 0.3184 0.27313 0.36354 0.13645 0.38264 0.05435 L 0.40225 -0.05435 C 0.42187 -0.13645 0.46996 -0.27289 0.61128 -0.27289 C 0.70191 -0.27289 0.80486 -0.14986 0.80486 -6.93802E-007 C 0.80486 0.14986 0.70191 0.27313 0.61128 0.27313 C 0.46996 0.27313 0.42187 0.13645 0.40225 0.05435 L 0.38264 -0.05435 C 0.36354 -0.13645 0.3184 -0.27289 0.19323 -0.27289 C 0.08698 -0.27289 2.5E-006 -0.14986 2.5E-006 -6.93802E-007 Z">
                                      <p:cBhvr>
                                        <p:cTn id="6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182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КРАШАЕМ ЁЛ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1" name="Picture 7" descr="F4426683"/>
          <p:cNvPicPr/>
          <p:nvPr/>
        </p:nvPicPr>
        <p:blipFill>
          <a:blip r:embed="rId1"/>
          <a:stretch/>
        </p:blipFill>
        <p:spPr>
          <a:xfrm>
            <a:off x="900000" y="2349360"/>
            <a:ext cx="4032360" cy="22320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900000" y="508392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олько флажков получаетс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3" descr="EB4C14D2"/>
          <p:cNvPicPr/>
          <p:nvPr/>
        </p:nvPicPr>
        <p:blipFill>
          <a:blip r:embed="rId2"/>
          <a:stretch/>
        </p:blipFill>
        <p:spPr>
          <a:xfrm>
            <a:off x="5364000" y="2349360"/>
            <a:ext cx="37800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КРАШАЕМ ЁЛ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5" name="Picture 7" descr="23BED1BA"/>
          <p:cNvPicPr/>
          <p:nvPr/>
        </p:nvPicPr>
        <p:blipFill>
          <a:blip r:embed="rId1"/>
          <a:stretch/>
        </p:blipFill>
        <p:spPr>
          <a:xfrm>
            <a:off x="4572000" y="2349360"/>
            <a:ext cx="4032360" cy="1584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211640" y="4292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колько игрушек надо повесить на елк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0" descr="5A1539D5"/>
          <p:cNvPicPr/>
          <p:nvPr/>
        </p:nvPicPr>
        <p:blipFill>
          <a:blip r:embed="rId2"/>
          <a:stretch/>
        </p:blipFill>
        <p:spPr>
          <a:xfrm>
            <a:off x="755640" y="2276640"/>
            <a:ext cx="287964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МОГИ СНЕГОВИ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49360" y="2637000"/>
            <a:ext cx="7694640" cy="30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№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( устно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42" descr="Снеговик"/>
          <p:cNvPicPr/>
          <p:nvPr/>
        </p:nvPicPr>
        <p:blipFill>
          <a:blip r:embed="rId1"/>
          <a:stretch/>
        </p:blipFill>
        <p:spPr>
          <a:xfrm>
            <a:off x="1042920" y="3068640"/>
            <a:ext cx="2376720" cy="3168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442764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442764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529272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5724360" y="3933720"/>
            <a:ext cx="43200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615636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859280" y="3429000"/>
            <a:ext cx="43200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529272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5724360" y="3429000"/>
            <a:ext cx="43200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615636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6588000" y="3429000"/>
            <a:ext cx="43200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3635280" y="3429000"/>
            <a:ext cx="79236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4859280" y="3933720"/>
            <a:ext cx="43200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3635280" y="3933720"/>
            <a:ext cx="79236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6588000" y="3933720"/>
            <a:ext cx="43200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50072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2"/>
          <p:cNvSpPr/>
          <p:nvPr/>
        </p:nvSpPr>
        <p:spPr>
          <a:xfrm>
            <a:off x="493236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6877080" y="270828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6588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529272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7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378000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622764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9"/>
          <p:cNvSpPr/>
          <p:nvPr/>
        </p:nvSpPr>
        <p:spPr>
          <a:xfrm>
            <a:off x="3780000" y="40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450072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4932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5292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3"/>
          <p:cNvSpPr/>
          <p:nvPr/>
        </p:nvSpPr>
        <p:spPr>
          <a:xfrm>
            <a:off x="5724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4"/>
          <p:cNvSpPr/>
          <p:nvPr/>
        </p:nvSpPr>
        <p:spPr>
          <a:xfrm>
            <a:off x="65880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6"/>
          <p:cNvSpPr/>
          <p:nvPr/>
        </p:nvSpPr>
        <p:spPr>
          <a:xfrm>
            <a:off x="6084720" y="400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МОГИ СНЕГОВИ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49360" y="227628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№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( устно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Picture 42" descr="Снеговик"/>
          <p:cNvPicPr/>
          <p:nvPr/>
        </p:nvPicPr>
        <p:blipFill>
          <a:blip r:embed="rId1"/>
          <a:stretch/>
        </p:blipFill>
        <p:spPr>
          <a:xfrm>
            <a:off x="1042920" y="3068640"/>
            <a:ext cx="2376720" cy="3168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>
            <a:off x="442764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442764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529272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5724360" y="3933720"/>
            <a:ext cx="43200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15636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859280" y="3429000"/>
            <a:ext cx="43200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529272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5724360" y="3429000"/>
            <a:ext cx="43200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615636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4"/>
          <p:cNvSpPr/>
          <p:nvPr/>
        </p:nvSpPr>
        <p:spPr>
          <a:xfrm>
            <a:off x="7020000" y="3429000"/>
            <a:ext cx="43164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6588000" y="3429000"/>
            <a:ext cx="43200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3851280" y="3429000"/>
            <a:ext cx="576360" cy="50472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859280" y="3933720"/>
            <a:ext cx="43200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3851280" y="3933720"/>
            <a:ext cx="57636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9"/>
          <p:cNvSpPr/>
          <p:nvPr/>
        </p:nvSpPr>
        <p:spPr>
          <a:xfrm>
            <a:off x="6588000" y="3933720"/>
            <a:ext cx="43200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7020000" y="3933720"/>
            <a:ext cx="431640" cy="505080"/>
          </a:xfrm>
          <a:prstGeom prst="rect">
            <a:avLst/>
          </a:prstGeom>
          <a:solidFill>
            <a:srgbClr val="cf54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50072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500364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665964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709308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529272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57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9"/>
          <p:cNvSpPr/>
          <p:nvPr/>
        </p:nvSpPr>
        <p:spPr>
          <a:xfrm>
            <a:off x="3924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22764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3995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450072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485928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5292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57960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5880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70200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15636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ФОНАРИКОВ СДЕЛАЛИ ПОМОЩНИК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7" descr="7464B1E0"/>
          <p:cNvPicPr/>
          <p:nvPr/>
        </p:nvPicPr>
        <p:blipFill>
          <a:blip r:embed="rId1"/>
          <a:stretch/>
        </p:blipFill>
        <p:spPr>
          <a:xfrm>
            <a:off x="1655640" y="3895560"/>
            <a:ext cx="2133720" cy="657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740B941A"/>
          <p:cNvPicPr/>
          <p:nvPr/>
        </p:nvPicPr>
        <p:blipFill>
          <a:blip r:embed="rId2"/>
          <a:stretch/>
        </p:blipFill>
        <p:spPr>
          <a:xfrm>
            <a:off x="5580000" y="3429000"/>
            <a:ext cx="2808360" cy="1728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1"/>
          <p:cNvSpPr/>
          <p:nvPr/>
        </p:nvSpPr>
        <p:spPr>
          <a:xfrm>
            <a:off x="3924360" y="2184480"/>
            <a:ext cx="151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12" descr="Ёлка"/>
          <p:cNvPicPr/>
          <p:nvPr/>
        </p:nvPicPr>
        <p:blipFill>
          <a:blip r:embed="rId3"/>
          <a:stretch/>
        </p:blipFill>
        <p:spPr>
          <a:xfrm>
            <a:off x="179280" y="4724280"/>
            <a:ext cx="136836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2:16:15Z</dcterms:created>
  <dc:creator>SamLab.ws</dc:creator>
  <dc:description/>
  <dc:language>en-US</dc:language>
  <cp:lastModifiedBy>www</cp:lastModifiedBy>
  <dcterms:modified xsi:type="dcterms:W3CDTF">2017-12-03T17:48:26Z</dcterms:modified>
  <cp:revision>21</cp:revision>
  <dc:subject/>
  <dc:title>Слайд 1</dc:title>
</cp:coreProperties>
</file>